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59.wmf" ContentType="image/x-wmf"/>
  <Override PartName="/ppt/media/image58.wmf" ContentType="image/x-wmf"/>
  <Override PartName="/ppt/media/image11.png" ContentType="image/png"/>
  <Override PartName="/ppt/media/image48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5.wmf" ContentType="image/x-wmf"/>
  <Override PartName="/ppt/media/image60.wmf" ContentType="image/x-wmf"/>
  <Override PartName="/ppt/media/image20.png" ContentType="image/png"/>
  <Override PartName="/ppt/media/image18.wmf" ContentType="image/x-wmf"/>
  <Override PartName="/ppt/media/image23.wmf" ContentType="image/x-wmf"/>
  <Override PartName="/ppt/media/image61.png" ContentType="image/png"/>
  <Override PartName="/ppt/media/image24.png" ContentType="image/png"/>
  <Override PartName="/ppt/media/image22.png" ContentType="image/png"/>
  <Override PartName="/ppt/media/image36.png" ContentType="image/png"/>
  <Override PartName="/ppt/media/image19.wmf" ContentType="image/x-wmf"/>
  <Override PartName="/ppt/media/image21.png" ContentType="image/png"/>
  <Override PartName="/ppt/media/image2.wmf" ContentType="image/x-wmf"/>
  <Override PartName="/ppt/media/image57.png" ContentType="image/png"/>
  <Override PartName="/ppt/media/image14.wmf" ContentType="image/x-wmf"/>
  <Override PartName="/ppt/media/image10.wmf" ContentType="image/x-wmf"/>
  <Override PartName="/ppt/media/image53.png" ContentType="image/png"/>
  <Override PartName="/ppt/media/image31.png" ContentType="image/png"/>
  <Override PartName="/ppt/media/image56.png" ContentType="image/png"/>
  <Override PartName="/ppt/media/image17.wmf" ContentType="image/x-wmf"/>
  <Override PartName="/ppt/media/image16.png" ContentType="image/png"/>
  <Override PartName="/ppt/media/image15.wmf" ContentType="image/x-wmf"/>
  <Override PartName="/ppt/media/image54.png" ContentType="image/png"/>
  <Override PartName="/ppt/media/image6.png" ContentType="image/png"/>
  <Override PartName="/ppt/media/image40.wmf" ContentType="image/x-wmf"/>
  <Override PartName="/ppt/media/image12.png" ContentType="image/png"/>
  <Override PartName="/ppt/media/image9.wmf" ContentType="image/x-wmf"/>
  <Override PartName="/ppt/media/image39.wmf" ContentType="image/x-wmf"/>
  <Override PartName="/ppt/media/image8.wmf" ContentType="image/x-wmf"/>
  <Override PartName="/ppt/media/image38.wmf" ContentType="image/x-wmf"/>
  <Override PartName="/ppt/media/image1.png" ContentType="image/png"/>
  <Override PartName="/ppt/media/image13.png" ContentType="image/png"/>
  <Override PartName="/ppt/media/image30.png" ContentType="image/png"/>
  <Override PartName="/ppt/media/image32.png" ContentType="image/png"/>
  <Override PartName="/ppt/media/image34.png" ContentType="image/png"/>
  <Override PartName="/ppt/media/image35.wmf" ContentType="image/x-wmf"/>
  <Override PartName="/ppt/media/image37.wmf" ContentType="image/x-wmf"/>
  <Override PartName="/ppt/media/image7.png" ContentType="image/png"/>
  <Override PartName="/ppt/media/image41.wmf" ContentType="image/x-wmf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49.wmf" ContentType="image/x-wmf"/>
  <Override PartName="/ppt/media/image51.png" ContentType="image/png"/>
  <Override PartName="/ppt/media/image50.png" ContentType="image/png"/>
  <Override PartName="/ppt/media/image52.png" ContentType="image/png"/>
  <Override PartName="/ppt/media/image5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4828-B91E-470B-83BE-AA626494B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3110-9716-450B-8D55-86CDC7EB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C770-B969-4528-A7DF-6B4322F1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F69B-49C2-40A5-9161-812952402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ED56-5DBE-46E6-96DC-788DFDB9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ABA7-DCE9-4237-8F65-4D18F327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8804-0C2E-4090-AEDB-CCC9A3E5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FE43-23DD-4D9A-A7F0-DA082B08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2506-343C-4B44-A4BE-B4360E91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F6B1-9EC2-4B4A-98CE-27898D60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6693-3193-4E05-932C-562CA774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96BD-134D-4C2A-BB44-5E5485D8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0E37-1E51-4C73-BB98-16602D2F3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0.wmf"/><Relationship Id="rId9" Type="http://schemas.openxmlformats.org/officeDocument/2006/relationships/slideLayout" Target="../slideLayouts/slideLayout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ujne i naponske re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98480" y="304920"/>
            <a:ext cx="53722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57200" y="990720"/>
          <a:ext cx="5102280" cy="475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5102280" cy="47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682200" y="228600"/>
            <a:ext cx="787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ni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gativno temperaturno zavisni strujni izv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CT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595840" y="3584520"/>
          <a:ext cx="1846440" cy="95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95840" y="3584520"/>
                    <a:ext cx="184644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vadratn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zitivno temperaturno zavisni strujni izvori (PTAT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68760" y="2209680"/>
          <a:ext cx="4575240" cy="12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68760" y="2209680"/>
                    <a:ext cx="4575240" cy="12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0" y="1219320"/>
          <a:ext cx="4495680" cy="358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219320"/>
                    <a:ext cx="4495680" cy="35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5562720" y="1143000"/>
            <a:ext cx="33526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 prave sa velikim naponom praga tako d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m j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962520" y="3352680"/>
          <a:ext cx="4419360" cy="21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3352680"/>
                    <a:ext cx="4419360" cy="21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152280" y="5479920"/>
          <a:ext cx="8991720" cy="692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5479920"/>
                    <a:ext cx="899172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52280" y="6134040"/>
          <a:ext cx="4629240" cy="64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280" y="6134040"/>
                    <a:ext cx="46292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ponske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Times New Roman"/>
              </a:rPr>
              <a:t>Klasifikaci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Po načinu povezivanja (diskretni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(2 ili 3 termina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ie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(preko 3 terminala uglavnom 8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Po temperaturnoj kompenzaci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ultog reda (nekompenzovane, 1.5-5 mV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vog re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kompenzuje se prvi član razvoja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rugog i višeg re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076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hunt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Manje preciz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zahtevaju manju stru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CC praktično neogranič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može da se pravi i negativni referentni napon i plivajući referentni nap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447920" y="3087720"/>
          <a:ext cx="525780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87720"/>
                    <a:ext cx="52578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76197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erijske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uprotno od shunt referen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5800" y="1523880"/>
          <a:ext cx="7467480" cy="42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46748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pecifik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nitial accura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Temperature coeffici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Temperature hystere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Line regul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Load regu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Long-term drift (stabilit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upply curr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quiescent curr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minimum operating curr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Dropout voltage (VDO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Load capacitanc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oise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low-frequency noise, ranging from 0.1Hz to 10Hz and specified in µVp-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wideband noise, ranging from 10Hz to 1kHz and specified in µVr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AC line regul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AC load regulation/output imped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Load transient response/output settlin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Turn-on/turn-off settling 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ponske reference nultog reda, diskretna realiz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543800" cy="1581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5800" y="22096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ad napona na direktno polarizovanoj diodi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 spoj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m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egativn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ni koeficijent od pribl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-2mV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, ali nije linearan. Kod diskretnih dioda važ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371600" y="3276720"/>
          <a:ext cx="6431040" cy="21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3276720"/>
                    <a:ext cx="643104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609480" y="55627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arametri variraju po nekoliko 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truje curenja,  delovanje svetl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200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ntegrisana di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809880" y="304920"/>
          <a:ext cx="1981440" cy="105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04920"/>
                    <a:ext cx="198144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533520" y="1371600"/>
          <a:ext cx="8076960" cy="255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371600"/>
                    <a:ext cx="807696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609480" y="41911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nja varijacija parametara nego kod diskretne di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mnogo manji uticaj parazitnih efek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je karakteristika procesa i kreće se tipično između 3.6 i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trujne reference su znatno nepreciznije od naponskih, ali se koriste da bi se realizovale napons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aponske su bitne za AD  i DA konverz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ecizne reference se ne prave lako, - visoka c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industriji 12-16 bitni AD i DA imaju specificiranu liearnost, ali najčešće zbog reference u punom temperaturnom opsegu imaju samo 10 bitnu preciz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676520" y="380880"/>
          <a:ext cx="4495680" cy="37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80880"/>
                    <a:ext cx="4495680" cy="37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438280" y="4419720"/>
          <a:ext cx="4286520" cy="196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4419720"/>
                    <a:ext cx="428652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095880" cy="50626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ener dioda, diskretna verzija</a:t>
            </a:r>
            <a:br>
              <a:rPr sz="28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ombinacija 2 efekta: Zenerov proboj (neg. temp. co)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lavinski propboj (poz. temp. co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71600" y="1077840"/>
            <a:ext cx="617220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400800" cy="5034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38080" y="228600"/>
            <a:ext cx="746784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Osnovna namena nije realizacija naponske 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arametri imaju značajnu toleranciju pa samim tim i karakterist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eferentne diode (referenca prvog i višeg re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parena je zener dioda temperaturnog koeficijenta od +2mV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C sa direktno polarizovanom diodom od -2mV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oces difuzije kontrolis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be diode na istom vafe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iska c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1N821 seri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6.2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%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(od 100ppm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C do 5ppm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C pri struji od  7.5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1N94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9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%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, 1N94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11.7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%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2ppm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9999"/>
                </a:solidFill>
                <a:latin typeface="Times New Roman"/>
              </a:rPr>
              <a:t>Značajan š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9999"/>
                </a:solidFill>
                <a:latin typeface="Times New Roman"/>
              </a:rPr>
              <a:t>veliki napon napaj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9999"/>
                </a:solidFill>
                <a:latin typeface="Times New Roman"/>
              </a:rPr>
              <a:t>velika pobudna stru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531720" y="609480"/>
          <a:ext cx="3834000" cy="296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609480"/>
                    <a:ext cx="3834000" cy="29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762120" y="4038480"/>
            <a:ext cx="7543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amostartujuće k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treba jednostruko napa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iska c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ntegrisana Zener dio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tandardno 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oristi  B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ertikalnog NP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zis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ojni napon je oko 6V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, a proboj nastaje na površi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a površini su izraženi uticaji nesavršenosti kristala, pokretnih nosilaca u oksidu i drugi obrlici kontaminacije što prouzrokuje veliki šum i slabu long-term stabi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dobar temperaturni koeficijent oko +2mV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C dobro se kompenzuje sa direktno polarizovanom dio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truja od nekoliko mA prouzrokuje stvaranje provodnog sloja ispod aluminijuma što kratko spaja diodu pa se koristi kao osigura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449604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ener dioda na bazi ukopanog slo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što je dioda ispod-površinka površinski efekti ne utič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kupa realizacija u CMOS tehnologiji, zahteva dodatnu masku i dodatnu difuz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arakteristike su stabilne i ponovlj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može se efikasno kompenzovati temperaturni koeficijent i kalibrisati nap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ntegrisan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andgap reference (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) prvog re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04920" y="1600200"/>
          <a:ext cx="268272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26827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352680" y="2209680"/>
            <a:ext cx="4740480" cy="2700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429000" y="55627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low-voltage/ low-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724280" y="4267080"/>
          <a:ext cx="203400" cy="352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4267080"/>
                    <a:ext cx="2034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0" y="0"/>
          <a:ext cx="3178080" cy="468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178080" cy="46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572000" y="838080"/>
          <a:ext cx="1752480" cy="49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838080"/>
                    <a:ext cx="17524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4114800" y="1752480"/>
          <a:ext cx="2514600" cy="547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1752480"/>
                    <a:ext cx="251460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3429000" y="1295280"/>
            <a:ext cx="510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da se optimalna struja i 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zračuna s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478320" y="2209680"/>
          <a:ext cx="5665680" cy="204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78320" y="2209680"/>
                    <a:ext cx="566568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3693960" y="304920"/>
          <a:ext cx="3314880" cy="493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93960" y="304920"/>
                    <a:ext cx="33148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99960" y="4648320"/>
          <a:ext cx="8744040" cy="1965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9960" y="4648320"/>
                    <a:ext cx="874404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jne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419720" y="9144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e realizuju sa nekoliko puta većom geometrijom od minimalne da bi ogledalo bilo što bol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može sa minimalnom jer on služi samo ka o N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MOS tranzistori se realizuju sa dugačkim kanalom, na primer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W/L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=100/25 da bi bio smanjen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fek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a da se doda kolo za starto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98520" y="990720"/>
          <a:ext cx="336384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8520" y="990720"/>
                    <a:ext cx="336384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772400" cy="5821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362320" y="60958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D580, REF01, REF02, REF03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239240" cy="4929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447920" y="5791320"/>
            <a:ext cx="609588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990720" y="457200"/>
          <a:ext cx="7086600" cy="581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57200"/>
                    <a:ext cx="7086600" cy="581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ntegrisane bandgap reference drugog re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48690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8088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ne 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tegrisane bandgap reference višeg reda su često predmet akademskih istraži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eko 50 radova u IEEE Journal of Solid State Circu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esto se dizajn bazira na nekoj komponenti koja ima skoro idealne karakteristike tipično su to otpornoci sa niskim 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arazitni efekti često degradiraju performanse referenci višeg reda tako da one imaju performanse kao da su prvog reda uz veću složeno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rlo malo ih je našlo primenu u komercijalnim integrisanim kol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omercijalno se koriste reference gde se kompenzacija višeg reda realizuje sa EEPROM memorijom i DA konverorom što daje mogućnost za efikasnu kalibraciju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ly assisted analog desig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enerove reference prvog re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28600" y="1143000"/>
          <a:ext cx="24256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24256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2971800" y="1295280"/>
            <a:ext cx="59436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a bazi Zenerovih dioda sa ukopanim sloj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ako su po klasifikaciji prvog reda, temperaturna kompenzacija je složeniji ali i precizniji mehanizam nego kod bandgap referen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tabilne karakterist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manji š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304920" y="990720"/>
          <a:ext cx="376704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90720"/>
                    <a:ext cx="37670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4572000" y="1600200"/>
            <a:ext cx="41911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koliko je R1=0 temperaturna stabilnost ne zavisi od otpornika LT1021-7   TC=2ppm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ukoliko postoje otpornici oni poremete TC ali inicijalna tolerancija može da se fabrički kalibriš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T1021-5  5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0.0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432920" cy="48355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57200" y="2746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XFET reference (sličan princip kao bandga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57913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R290/ADR293 ADR430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R4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sr-Latn-CS" sz="32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opolarizuj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ći strujni izv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-304920" y="1066680"/>
          <a:ext cx="9144000" cy="461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1066680"/>
                    <a:ext cx="9144000" cy="46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6172200" y="5562720"/>
          <a:ext cx="2514600" cy="104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5562720"/>
                    <a:ext cx="2514600" cy="1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62120" y="1050840"/>
            <a:ext cx="746748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eference sa temperaturnim stabilizato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04920" y="1143000"/>
          <a:ext cx="482904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482904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5181480" y="2057400"/>
            <a:ext cx="3429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LM399 temp stabiliz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0.5ppm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% početna tolerancija, potrebna je eksterna kalibr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LTZ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0.05ppm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p-p š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 mesečni dri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ala inicijalna tolerancija, reda 5%, potrebna je eksterna kalibr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Zenerove i XFET reference su nekompatibilne sa jeftinim CMOS proces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Bandgap su kompatibilne ali imaju skromne karakteristike ukoliko se ne radi dodatna kalibracija što je nepoželjno i poskupljuje proizvodn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CMOS tehnici alternativa je (slično XFET-u) da se koristi diferencijalni par kod koga je jedan tranzistor sa ugrađenim kanal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građeni kanal se ostvaruje jonskom impalntacijom tako da je nemoguće nakon fabrikacije vafera raditi kalibraciju na tom nivou, problem se svodi na bandgap ali sa lošijim karakteristik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ešenje je korišćenje uparenih MOS tranzistora gde je jedan sa plivajućim gejtom primenom EEPROM tehnolog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oating gate re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oating gate re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969920" y="1254240"/>
            <a:ext cx="5497560" cy="4597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09480" y="236232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ncipijelna š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447920" y="754200"/>
            <a:ext cx="6248160" cy="53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sion Voltage Reference Using EEPROM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Gejt tranzistora poseduje svoju kapacitiv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Do gejta se dovode dve tunel di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5943600" y="1981080"/>
          <a:ext cx="246852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981080"/>
                    <a:ext cx="24685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380880" y="1752480"/>
            <a:ext cx="52578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 strukturi tunel diode su tanka oksidna izolacija izmedju dva provodna priključka, što u principu predstavlja kondenz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Zarobljeno naelektrisanje ostaje nepromenjeno između 10 i 100 g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ada je na takvom kondenzatoru takav napon da je ostvari E dovoljno veliko (reda 10MV/cm), dolazi do nedestruktivnog proboja izol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345960" y="598320"/>
          <a:ext cx="4951440" cy="550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598320"/>
                    <a:ext cx="4951440" cy="550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4800600" y="495288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Accuracy &lt; 0.2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TC 3 ppm / °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Drift 10ppm/1000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power 500nA at 5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ehnike za poboljšanje PSRR i line regulation</a:t>
            </a:r>
            <a:br>
              <a:rPr sz="3200"/>
            </a:b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askodne tehnike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 prepregul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57200" y="1828800"/>
          <a:ext cx="8153280" cy="38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153280" cy="38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3048120" y="5715000"/>
          <a:ext cx="252720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5715000"/>
                    <a:ext cx="25272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304920" y="5715000"/>
          <a:ext cx="2057400" cy="60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5715000"/>
                    <a:ext cx="20574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5791320" y="5867280"/>
          <a:ext cx="3047760" cy="587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1320" y="5867280"/>
                    <a:ext cx="304776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676520" y="533520"/>
            <a:ext cx="570204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5257800" cy="5222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opolarizuj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ći strujni izv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90720" y="609480"/>
          <a:ext cx="2514600" cy="104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609480"/>
                    <a:ext cx="251460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419720" y="0"/>
          <a:ext cx="4724280" cy="321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0"/>
                    <a:ext cx="4724280" cy="32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0" y="1828800"/>
            <a:ext cx="4616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391160" cy="46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ni p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zitivno temperaturno zavisni strujni izvori (PT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4199040" cy="480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5715000" y="3505320"/>
          <a:ext cx="1555920" cy="52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5000" y="3505320"/>
                    <a:ext cx="155592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495680" y="2057400"/>
          <a:ext cx="420228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95680" y="2057400"/>
                    <a:ext cx="420228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4395960" y="4267080"/>
          <a:ext cx="4073400" cy="1049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95960" y="4267080"/>
                    <a:ext cx="407340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5483160" cy="4925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267080" y="2743200"/>
            <a:ext cx="46483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ko je CMOS tehnologija sa N substratom, koriste se parazitini NPN tranzisto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 tehnologijama sa manjom geometrijom modulacija du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žine kanala 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efekat) degradira performanse 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17:46:56Z</dcterms:created>
  <dc:creator>Milan Ponjavic</dc:creator>
  <dc:description/>
  <dc:language>en-US</dc:language>
  <cp:lastModifiedBy>Vasa</cp:lastModifiedBy>
  <dcterms:modified xsi:type="dcterms:W3CDTF">2007-12-30T18:53:57Z</dcterms:modified>
  <cp:revision>58</cp:revision>
  <dc:subject/>
  <dc:title>Naponske i strujne reference</dc:title>
</cp:coreProperties>
</file>