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9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8.wmf" ContentType="image/x-wmf"/>
  <Override PartName="/ppt/media/image13.wmf" ContentType="image/x-wmf"/>
  <Override PartName="/ppt/media/image26.png" ContentType="image/png"/>
  <Override PartName="/ppt/media/image11.wmf" ContentType="image/x-wmf"/>
  <Override PartName="/ppt/media/image33.png" ContentType="image/png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png" ContentType="image/png"/>
  <Override PartName="/ppt/media/image17.wmf" ContentType="image/x-wmf"/>
  <Override PartName="/ppt/media/image20.png" ContentType="image/png"/>
  <Override PartName="/ppt/media/image21.wmf" ContentType="image/x-wmf"/>
  <Override PartName="/ppt/media/image18.png" ContentType="image/png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20B-5BF3-4249-8684-C6B4E34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001-4C61-40EF-9581-37770721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DEF-E211-4D1E-94B9-2820FEF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0C6-ED00-4F0B-A3F8-E5E6EEF2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140-AAAC-493C-AEC1-5130631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64D-1A67-4A16-B9E0-2C4FD2D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835-5C79-452B-97B4-788B89F2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A78-B0DD-4DCA-83C4-9FFB2E59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FBB-6E8C-4E7A-A0C3-F811B07E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713-CF6D-4DA6-AE3C-B4A433E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DA4-4320-41FF-BAA2-C2EE093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A1F-C9A9-4A72-B951-DFC07270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D33-BEC3-4D08-8309-04CD6C03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Decimacioni filteri za monotone NT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 ko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4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lteri u pvom stepe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3505320"/>
          <a:ext cx="639432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63943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5257800"/>
          <a:ext cx="472428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257800"/>
                    <a:ext cx="47242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62120" y="4191120"/>
          <a:ext cx="6121440" cy="114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191120"/>
                    <a:ext cx="61214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jektovanje decimacionih filtera za konkretne telekomunikacione aplikacije je pokriveno sa više standa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ati za projektovanje CIC filtera: Matlab, Altera, Xinl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mel , Latti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mulacija: Matlab, Altera, Xinl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mel , Latti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Realiz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t serijska aritm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serijska aritm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elana aritm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ovita aritmet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3790800" cy="357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551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209680" y="685800"/>
          <a:ext cx="34290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85800"/>
                    <a:ext cx="34290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523880" y="1676520"/>
          <a:ext cx="5683320" cy="33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676520"/>
                    <a:ext cx="56833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752480" y="55627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rektna transponovana 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43000" y="609480"/>
          <a:ext cx="6416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6416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39152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Kastomizovani A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235160"/>
            <a:ext cx="6858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stepeni – single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oji samo jedan kvantizator bez obzira n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askadni ∑∆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(MAS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17836"/>
          <a:stretch/>
        </p:blipFill>
        <p:spPr>
          <a:xfrm>
            <a:off x="228600" y="3124080"/>
            <a:ext cx="8381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ka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e jednostepe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še kvantiz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9154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41240" y="304920"/>
          <a:ext cx="8447040" cy="62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304920"/>
                    <a:ext cx="8447040" cy="62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skadna veza dva modulatora (princip je poznat kod klasičnih 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gi konvertuje samo grešku prvog koja se kasnije digitalno oduzima od rezultata konverzije prvog konver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gi konvertor ne mora da bud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∑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Tolerancija komponenti treba da bude veća nego kod single-loop modulatora, ali daleko manja nego u odnosu na klasične konver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2120" y="0"/>
          <a:ext cx="491004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491004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85800" y="1752480"/>
          <a:ext cx="596736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59673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5"/>
          <a:srcRect l="8346" t="0" r="0" b="0"/>
          <a:stretch/>
        </p:blipFill>
        <p:spPr>
          <a:xfrm>
            <a:off x="0" y="3124080"/>
            <a:ext cx="4184640" cy="293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886200" y="2722680"/>
          <a:ext cx="4495680" cy="413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2722680"/>
                    <a:ext cx="449568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1-1 modu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066680"/>
          <a:ext cx="914400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228600"/>
          <a:ext cx="8709120" cy="60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09120" cy="60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1-1-1 mod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0592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722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80880" y="380880"/>
          <a:ext cx="800424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0042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62120" y="1600200"/>
          <a:ext cx="753084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75308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" y="3276720"/>
          <a:ext cx="6807240" cy="8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68072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4419720"/>
          <a:ext cx="5186520" cy="5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419720"/>
                    <a:ext cx="51865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990720" y="5334120"/>
          <a:ext cx="1981080" cy="12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334120"/>
                    <a:ext cx="19810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429000" y="5257800"/>
          <a:ext cx="5132520" cy="134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257800"/>
                    <a:ext cx="51325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62120" y="457200"/>
          <a:ext cx="723744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723744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95280" y="32004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 (cascaded integrator-comb)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peracija sabiranja u integratorima je sabiranje po modulu (drugi komplement zapisa u regist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roj bita po integratoru treba da bude takav da za jedan izlazni odbirak ne dolazi 2 puta do prekora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redišnji integrator, odabirač i diferencijator mogu da se zamene jednim resetabilnim integrato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44480" y="533520"/>
          <a:ext cx="693576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33520"/>
                    <a:ext cx="693576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497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=0:0.01: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=20*log(0.00001+abs((sin(pi*f )./(8*sin(pi*f/8)))).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ot(f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iskopropusni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dnji korak decim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ska učestanost - bit serijska aritme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atki ” koeficijenti da bi aritmetika bila jednostav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binarni odnos koeficijenata da bi nočevi karakteristike pali na maksimume CIC karakteris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okviru filtera jeintegrator sa resetom koji radi konačno spuštanje na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295960" cy="399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73152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47848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49:28Z</dcterms:created>
  <dc:creator>Vasa</dc:creator>
  <dc:description/>
  <dc:language>en-US</dc:language>
  <cp:lastModifiedBy>Vasa</cp:lastModifiedBy>
  <dcterms:modified xsi:type="dcterms:W3CDTF">2009-05-04T12:34:30Z</dcterms:modified>
  <cp:revision>46</cp:revision>
  <dc:subject/>
  <dc:title>Slide 1</dc:title>
</cp:coreProperties>
</file>