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4.png" ContentType="image/png"/>
  <Override PartName="/ppt/media/image12.wmf" ContentType="image/x-wmf"/>
  <Override PartName="/ppt/media/image8.wmf" ContentType="image/x-wmf"/>
  <Override PartName="/ppt/media/image13.png" ContentType="image/png"/>
  <Override PartName="/ppt/media/image9.wmf" ContentType="image/x-wmf"/>
  <Override PartName="/ppt/media/image7.wmf" ContentType="image/x-wmf"/>
  <Override PartName="/ppt/media/image25.png" ContentType="image/png"/>
  <Override PartName="/ppt/media/image10.wmf" ContentType="image/x-wmf"/>
  <Override PartName="/ppt/media/image30.wmf" ContentType="image/x-wmf"/>
  <Override PartName="/ppt/media/image5.png" ContentType="image/png"/>
  <Override PartName="/ppt/media/image32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2DD-9108-449E-B094-F9F89997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EAC-2319-4ED1-84F7-190089B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D80-0E03-4DF4-8B1A-3B2DE708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6E6-1BE5-43D0-AB81-1EB8B565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531-BAC0-48CC-A930-CBB1FC8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4C2-20EE-4F78-B200-298D8ABE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FD9-DC38-4923-B78C-C0B708A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EE7-5A33-41FB-B218-1042C94F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47A-13A9-4741-99C7-2CB7DA79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ED7-3292-45A0-9C1D-357571EC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846-A6A8-4241-88E0-A1A22442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6A4-7273-4A10-8801-FACC60E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B309-E387-48F6-AC62-C08FD440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dpas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∑∆ A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12988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75188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314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8534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ror feedback struk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78680" cy="227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54500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9760" cy="301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4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0960" cy="294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5567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97680" cy="364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481880" cy="1860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33720" y="6002280"/>
            <a:ext cx="468612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1644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267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27432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konverzija u NF opse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217000" cy="242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58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konverzija u MF opse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52040" cy="2876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3352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konverzija u RF opse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64856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118280" cy="411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505320" y="4572000"/>
          <a:ext cx="2057400" cy="8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4572000"/>
                    <a:ext cx="2057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752480" y="5486400"/>
          <a:ext cx="635472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5486400"/>
                    <a:ext cx="6354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187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38280" y="2666880"/>
            <a:ext cx="3799080" cy="50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2125800" cy="63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3623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297400" cy="309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529884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411880" cy="333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838080" y="3505320"/>
          <a:ext cx="6782040" cy="145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505320"/>
                    <a:ext cx="678204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62120" y="502920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a multipleksirana LP modulatora gde se semplovi alternativno invertu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or 4. reda je stabi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R ostaje 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∑∆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49:28Z</dcterms:created>
  <dc:creator>Vasa</dc:creator>
  <dc:description/>
  <dc:language>en-US</dc:language>
  <cp:lastModifiedBy>.</cp:lastModifiedBy>
  <dcterms:modified xsi:type="dcterms:W3CDTF">2009-05-21T11:51:54Z</dcterms:modified>
  <cp:revision>67</cp:revision>
  <dc:subject/>
  <dc:title>Slide 1</dc:title>
</cp:coreProperties>
</file>