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3.wmf" ContentType="image/x-wmf"/>
  <Override PartName="/ppt/media/image12.wmf" ContentType="image/x-wmf"/>
  <Override PartName="/ppt/media/image4.png" ContentType="image/png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9E9DD-DD04-413D-8BC4-8D6091733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BEDF8-6009-47F4-9399-D0D9170F3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DBC35-6CA7-4A65-A170-4992558D5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65188-6E98-4C50-8F6B-6CAF245AF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FBF98-FCB0-425D-9624-0A71604D2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2FB17-07CF-4B0F-B7BC-D6E1C9E1F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DC964-0548-4AD7-BCAC-64A68B8C3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3A9F2-ED4F-4B19-B942-D9ABA6042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EAE3E-3D0D-4472-8338-5A7027CD9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1B67D-D4A1-4FF3-B7CF-72EAF0790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6A71F-13EA-42CC-AA95-2B2066B5F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0F01E-82A8-4CBC-B846-C9E8EC9F8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2A806-ACAC-46FA-A6E0-EDD3E48FFF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8472240" cy="587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-1  modula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219320"/>
            <a:ext cx="8077320" cy="3862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6" name=""/>
          <p:cNvGraphicFramePr/>
          <p:nvPr/>
        </p:nvGraphicFramePr>
        <p:xfrm>
          <a:off x="1620720" y="5334120"/>
          <a:ext cx="5521320" cy="749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20720" y="5334120"/>
                    <a:ext cx="552132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zlaz modulatora = signal +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š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Šum je na visokim učestanostima velik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Šum na izlazu modulatora prvog reda je ogranič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Kod 2-1 realizacije, mora se uraditi skaliranje signala na izlazu  prvog stepe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Karakteristike su lošije nego dielani single-loop modulator trećeg re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Višebitna kvantizacija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(1/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600200" y="601992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981080" y="685800"/>
            <a:ext cx="4816440" cy="106524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rcRect l="0" t="0" r="2380" b="12391"/>
          <a:stretch/>
        </p:blipFill>
        <p:spPr>
          <a:xfrm>
            <a:off x="914400" y="1825560"/>
            <a:ext cx="7238880" cy="503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8305920" cy="50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86868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04920" y="380880"/>
            <a:ext cx="86104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rcRect l="0" t="0" r="46038" b="65011"/>
          <a:stretch/>
        </p:blipFill>
        <p:spPr>
          <a:xfrm>
            <a:off x="1295280" y="0"/>
            <a:ext cx="5639040" cy="2536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6" name=""/>
          <p:cNvGraphicFramePr/>
          <p:nvPr/>
        </p:nvGraphicFramePr>
        <p:xfrm>
          <a:off x="1143000" y="4191120"/>
          <a:ext cx="6553080" cy="1965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43000" y="4191120"/>
                    <a:ext cx="6553080" cy="196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"/>
          <p:cNvGraphicFramePr/>
          <p:nvPr/>
        </p:nvGraphicFramePr>
        <p:xfrm>
          <a:off x="1219320" y="3124080"/>
          <a:ext cx="2120760" cy="719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219320" y="3124080"/>
                    <a:ext cx="2120760" cy="7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533520" y="533520"/>
          <a:ext cx="7848360" cy="301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533520"/>
                    <a:ext cx="784836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380880" y="3962520"/>
          <a:ext cx="8305920" cy="2224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3962520"/>
                    <a:ext cx="8305920" cy="22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457200" y="228600"/>
          <a:ext cx="6351480" cy="506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28600"/>
                    <a:ext cx="6351480" cy="506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533520" y="228600"/>
          <a:ext cx="7086600" cy="540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28600"/>
                    <a:ext cx="7086600" cy="540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"/>
          <p:cNvGraphicFramePr/>
          <p:nvPr/>
        </p:nvGraphicFramePr>
        <p:xfrm>
          <a:off x="457200" y="228600"/>
          <a:ext cx="7588080" cy="304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28600"/>
                    <a:ext cx="7588080" cy="304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" name=""/>
          <p:cNvGraphicFramePr/>
          <p:nvPr/>
        </p:nvGraphicFramePr>
        <p:xfrm>
          <a:off x="457200" y="3581280"/>
          <a:ext cx="7772400" cy="617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3581280"/>
                    <a:ext cx="777240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" name=""/>
          <p:cNvGraphicFramePr/>
          <p:nvPr/>
        </p:nvGraphicFramePr>
        <p:xfrm>
          <a:off x="457200" y="4191120"/>
          <a:ext cx="5562720" cy="709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" y="4191120"/>
                    <a:ext cx="5562720" cy="70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7T11:49:28Z</dcterms:created>
  <dc:creator>Vasa</dc:creator>
  <dc:description/>
  <dc:language>en-US</dc:language>
  <cp:lastModifiedBy>Vasa</cp:lastModifiedBy>
  <dcterms:modified xsi:type="dcterms:W3CDTF">2009-05-13T23:09:01Z</dcterms:modified>
  <cp:revision>60</cp:revision>
  <dc:subject/>
  <dc:title>Slide 1</dc:title>
</cp:coreProperties>
</file>