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jpeg" ContentType="image/jpeg"/>
  <Override PartName="/ppt/media/image19.wmf" ContentType="image/x-wmf"/>
  <Override PartName="/ppt/media/image21.wmf" ContentType="image/x-wmf"/>
  <Override PartName="/ppt/media/image20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E97-9723-4CF1-ABEA-C9F03EFA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E6F-069C-413D-B3F4-645623BE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A56-3AF0-4B76-8D62-06891BC2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A2E-0F39-4926-A379-97A3F43E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F5F-9E1F-4A4F-BFDC-9180EFE0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D72-937D-4A95-9CE2-7DBEEEB3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74C-DBA2-4055-824E-D8F0B483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C61-D938-45FF-BBBF-84C954F7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D59-88E6-4291-BE57-EC63CC77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5EF-F3F9-421E-B729-727E372A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CA8-A449-4228-BC19-49FA4F9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A5C-2310-441C-89C8-591EFBAD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4F7C-71FA-47D2-92C6-A03991E26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05720" cy="2057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28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ious free dynami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(SFD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3200400"/>
          <a:ext cx="3600360" cy="15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360036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636720" cy="150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4876920"/>
            <a:ext cx="86104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778280"/>
                <a:tab algn="l" pos="95569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o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EM randomizes the mismatch in DAC and spread the energy of the toned noise to the entire band. Thus, the nonlinearity is improved and the SFDR is increa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778280"/>
                <a:tab algn="l" pos="95569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n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he spread noise increases the noise floor, and hence the in-band noise power. SNR of th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 is degra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778280"/>
                <a:tab algn="l" pos="955692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In conclus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The DEM improves SFDR, but degrades SNR. In other words, it trades SNR for SF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08280" y="0"/>
            <a:ext cx="5338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je ako mnogo upada u korisni ops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perimentalno se teško otkriva, jer ga dekoreliše šum, merna instrumentacija i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lasični FFT spektralni analizatori mogu da se podese da ga vide ako se unapred znaju karakterist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utokorelacione metode sa velikim brojem odbiraka mogu da ga nađu off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 traje koninualno nego se pojavi pa nestane (pojavi se tokom eksploatacije, a kada se eksperimentiše nema 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mulacijom se teško otkriva jer računar ubacuje dekorelacioni šum (radi dodatnu kavntizaciju konačnom dužinom reči, iteracionim intervalima itd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ther mu smanjuje snag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guće je detektovati dugotrajne nizove nula i jedinica i hardverski prekinuti cik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e arhitekture imaju mogućnost generisanja graničnih cikl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i nelinearni sistemi sa povratnom spregom imaju mogućnost generisanja graničnih cikl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Mrtve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447920"/>
          <a:ext cx="803304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80330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uls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romena ulaznog napo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uzroko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e DC promenu nivoa na izlazu integra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 određenim okolnostima to može biti ignorisano od strane AD konver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načajna pojava ako integrator curi i  ima malo DC pojač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610480" cy="4443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Prenosna karakteristika sa mrtvim zon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Dinamički opseg modula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 ako je napajanje integrato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1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Čest odlazak u zasićenje povećava ekvivalentni šum i pojavu neparnih harmo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Kompozicija 2 nelinear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manjuje koristan ulazni ops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Utiče na stab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U modulatorima višeg reda moguće je rasporediti pojačanje tako da se minimizuje verovatnoća odlaska modulatora u zasićenje (smanjuje se komponenta šuma koja potiče od zasić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Povećan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smanjuje verovatnoću odlaska u zasić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Povećanje učestanosti ulaznog signala povećava verovatnoću odlaska u zasić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icaj pojačanja na karakteristi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tora prvog 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3880" y="1106640"/>
          <a:ext cx="594216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06640"/>
                    <a:ext cx="594216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914400" y="2057400"/>
          <a:ext cx="6858000" cy="38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057400"/>
                    <a:ext cx="685800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048120" y="5715000"/>
          <a:ext cx="2447640" cy="87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5715000"/>
                    <a:ext cx="244764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0"/>
          <a:ext cx="7925040" cy="50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792504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048120" y="5334120"/>
          <a:ext cx="2447640" cy="87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5334120"/>
                    <a:ext cx="244764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057400" y="457200"/>
          <a:ext cx="409572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57200"/>
                    <a:ext cx="4095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6629400" cy="51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6858000" y="3581280"/>
          <a:ext cx="1600200" cy="54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3581280"/>
                    <a:ext cx="16002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=1 je uglavnom dovolj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0.7 degradira se dinam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&gt;1.3 oscilatorni odz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&gt;2 nestabil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=1 sa tolerancijom od 10% je dovoljno do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pozicije kvantizacionih pragova DA konvertora na modulator prvog 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o je DA v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it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celokupan konvertor postaje nelinearan. DA mora da bude vrlo precizan. Kako su u pitanju DA sa malim brojem to ne predstavlj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je DA jednobitni razlika u pozitivnom i negativnom referentnom naponu unosi samo konstantan ofset što se lako može kompenzo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d jednobitnog DA nije bitno pojačanje integratora po pitanju tačnosti konverz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Curenje integrat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1066680"/>
          <a:ext cx="65534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65534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286000" y="3048120"/>
          <a:ext cx="3962520" cy="36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048120"/>
                    <a:ext cx="396252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838080"/>
            <a:ext cx="769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manjuje se potiskivanje šuma na nižim učestanos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je DC pojačanje H(1) integratora jednako najmanje OSR gubitak je svega 0.3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je curenje značajno, pojavljuju se mrtv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Uticaj parametara kola na modulatore drugog r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Uticaj tolerancije pojač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bustni slično kao prvog 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datni stepen slobode: odnos pojačanja u dve petlje povratne spr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poljašnja oblikuje niskofrekventne karakterist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nutrašnjom se podešava stabilnost i visokofrekventne karakterist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&lt; 1.33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5% odstupanja pojačanja od projektovane vrednosti je zadovoljavajuć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jačanje unutrašnje petlje se može povečati da bi se smanjilo kašnjeje u spoljašnjoj petl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Zasićenje integra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vi integrator ne odlazi lako u zasi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rugi integrator lako odlazi u zasi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graničenje signala pre drugog integratora na vrednost 3 puta veću od opsega ulaznog signala smanjuje verovatnoću zasićenja drugog integratora a ne utiče značajno na performanse celokupnog konver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urenje integra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oliko postoji curenje i DC pojačanje je manje od OSR pojavljuje se mrtva zona oko 0 za DC pobudu čija širina je veća što je curenje već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o može da bude korisno u audio aplikacijama jer ako nema pobude nema čak ni šu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Uticaj parametara kola na modulatore 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III r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o je osetljivije na toleranciju parametara, 0.3&lt;k&lt;1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j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nje pada kada neki od integratora ode u zasićenje i kolo ulazi u granični ciklus niske učestanosti velike amplitude i bez dodatnog hardvera ne napušta to st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davanjem zaštitnih nelinearnosti može se sprečiti  prethodno stanje ali se značajno povećava š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olja rešenja se dobijaju ako se umesto integratora koristi druga vrsta NF fil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Upotreba nemonotonih NF filtera u grani direktnog pren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1752480"/>
          <a:ext cx="594360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594360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914560" y="4191120"/>
          <a:ext cx="270360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191120"/>
                    <a:ext cx="270360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6705720" cy="519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988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51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2438280" y="228600"/>
          <a:ext cx="4419720" cy="10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228600"/>
                    <a:ext cx="44197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476760" cy="4113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266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vantizaciona grešk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≈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beli š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sme biti zas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ć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lazni sig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e D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autokorelaci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uzrokovane N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 dosta kvantizacionih niv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i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čni ciklu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882800" y="3332160"/>
          <a:ext cx="535608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3332160"/>
                    <a:ext cx="53560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219320" y="1219320"/>
          <a:ext cx="655308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219320"/>
                    <a:ext cx="655308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479760" y="2870280"/>
          <a:ext cx="2184480" cy="20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9760" y="2870280"/>
                    <a:ext cx="21844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286000" y="533520"/>
          <a:ext cx="428796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533520"/>
                    <a:ext cx="428796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0" y="1905120"/>
            <a:ext cx="9144000" cy="140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0" y="3429000"/>
            <a:ext cx="9144000" cy="17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1752480" y="5486400"/>
          <a:ext cx="5562720" cy="60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5486400"/>
                    <a:ext cx="55627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6063" t="20050" r="4088" b="0"/>
          <a:stretch/>
        </p:blipFill>
        <p:spPr>
          <a:xfrm>
            <a:off x="304920" y="304920"/>
            <a:ext cx="861048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358920"/>
            <a:ext cx="815328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1:49:28Z</dcterms:created>
  <dc:creator>Vasa</dc:creator>
  <dc:description/>
  <dc:language>en-US</dc:language>
  <cp:lastModifiedBy>.</cp:lastModifiedBy>
  <dcterms:modified xsi:type="dcterms:W3CDTF">2010-05-13T15:36:24Z</dcterms:modified>
  <cp:revision>21</cp:revision>
  <dc:subject/>
  <dc:title>Slide 1</dc:title>
</cp:coreProperties>
</file>