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01E-9030-4C77-A9C5-E3C044E0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004-4DA3-4B28-B355-A565F5A5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279-0275-49C9-9B11-BCE166AC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A12-946F-4A22-992C-CF2E7EFE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568-D6E3-4D46-8DB4-3ECB6105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1DE-5C6E-4D1B-B2FA-8C61FFF3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FB7-BC2C-48DF-919B-69E6BAE7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69C-9BCF-4132-B412-E55F5389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E16-4FB4-40E8-A29A-1B2A8756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F17-2EBF-4FB3-9EE2-B9C40E92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387-ADC6-4431-BEBB-12B6DC45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24B-B616-49B5-8519-378866FF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1780-B858-49B3-BFB7-7D7DCDE9FE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FA02-55D9-46CD-9CA2-43306841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dabiranje+kvantiz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00B-D0A9-493E-ADD0-B32366B6DD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Di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FB1-A78F-4BF3-9E2A-C7D942557C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onsubtractive di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006440"/>
            <a:ext cx="822960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 ditheringa kvantizacioni proces je koreli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štački se dodaje izvor š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.5 LSB uniformna raspod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LSB trougaona raspod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dither smanjuje dinamički op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38080" y="1308240"/>
          <a:ext cx="718056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08240"/>
                    <a:ext cx="718056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A62-7FC7-4B13-B126-3BCEA4172E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9440" y="1821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Subtractive di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4006440"/>
            <a:ext cx="822960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doknada dinamičkog ops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 rešava problem zasić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trebna sinhronizacija,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tko se kori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93600" y="1109520"/>
          <a:ext cx="7116840" cy="29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109520"/>
                    <a:ext cx="711684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83B-7667-4463-958B-0CCC4F749D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zvor š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seudorandom generator+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enerator ram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BBF-BE44-4E2A-B456-CEDFAC1BA4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-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1241280"/>
            <a:ext cx="8094960" cy="502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34B-0C25-46C6-892E-0EBFBA5782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898560" y="1063800"/>
          <a:ext cx="7180200" cy="24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063800"/>
                    <a:ext cx="7180200" cy="24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ontinualni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4600" y="348948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notono rastuća karakterist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73080" y="3994200"/>
          <a:ext cx="6770880" cy="25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3080" y="3994200"/>
                    <a:ext cx="677088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B12-552A-4B19-A426-CE68258086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12800" y="230040"/>
          <a:ext cx="724212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30040"/>
                    <a:ext cx="72421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335320" y="3151080"/>
          <a:ext cx="3822480" cy="226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5320" y="3151080"/>
                    <a:ext cx="3822480" cy="22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4E3-B2D5-407E-9372-D6A8ECF17C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5973840" y="882720"/>
          <a:ext cx="210816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73840" y="882720"/>
                    <a:ext cx="21081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03360" y="206280"/>
          <a:ext cx="4414680" cy="21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360" y="206280"/>
                    <a:ext cx="441468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96960" y="2513160"/>
          <a:ext cx="4032360" cy="19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6960" y="2513160"/>
                    <a:ext cx="403236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656320" y="2890800"/>
          <a:ext cx="256680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6320" y="2890800"/>
                    <a:ext cx="25668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00200" y="4753080"/>
          <a:ext cx="4057560" cy="188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0200" y="4753080"/>
                    <a:ext cx="405756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200560" y="5078520"/>
          <a:ext cx="3497400" cy="85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00560" y="5078520"/>
                    <a:ext cx="34974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C9B-C319-4DF0-AB5A-F9BF5927F9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123920" y="604800"/>
          <a:ext cx="72136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604800"/>
                    <a:ext cx="72136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43080" y="3036960"/>
          <a:ext cx="8548560" cy="22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3036960"/>
                    <a:ext cx="85485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CDD-22BB-4AB7-8DC5-A5E38A1AED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599904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1141560" y="4165560"/>
          <a:ext cx="6621480" cy="25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1560" y="4165560"/>
                    <a:ext cx="662148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195880" y="293220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793-2862-40EA-A5E3-0558C2686A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2720" y="1550880"/>
            <a:ext cx="7596000" cy="37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7FD-FF14-4A83-9027-DDEFCF3851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947880" y="212760"/>
          <a:ext cx="660852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212760"/>
                    <a:ext cx="660852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58800" y="2925720"/>
          <a:ext cx="7943760" cy="295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" y="2925720"/>
                    <a:ext cx="794376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68480" y="1511280"/>
          <a:ext cx="914400" cy="1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8480" y="151128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9DE-4B52-4382-8350-8A68494258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2400" y="492120"/>
            <a:ext cx="7317000" cy="308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450720" y="4033800"/>
          <a:ext cx="7829640" cy="172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720" y="4033800"/>
                    <a:ext cx="782964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55560" y="60199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dvostručavanje učestanosti odabiranja +1.5 bita rezolu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A2B-8F09-4841-BDE3-CB33A33D5C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843120" y="1044720"/>
          <a:ext cx="740232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44720"/>
                    <a:ext cx="740232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602160" y="279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r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3480" y="3319560"/>
          <a:ext cx="7529400" cy="18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80" y="3319560"/>
                    <a:ext cx="752940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947880" y="5322960"/>
          <a:ext cx="260172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7880" y="5322960"/>
                    <a:ext cx="26017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902040" y="5506920"/>
            <a:ext cx="447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dvostručavanje učestanosti odabiranja 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5 bita rezolu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081-659B-4655-935B-FA9B881B48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5160" y="2171880"/>
            <a:ext cx="7624800" cy="4005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02160" y="2793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42960" y="1062000"/>
          <a:ext cx="334656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1062000"/>
                    <a:ext cx="33465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292640" y="1203480"/>
            <a:ext cx="447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dvostručavanje učestanosti odabiranja 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-0.5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ita rezolu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FDB-5DF3-47D1-8359-5C50DD86CA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46000" y="217440"/>
            <a:ext cx="6873840" cy="388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F02-FD1E-42AC-A053-D83DA10869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3120" y="500040"/>
            <a:ext cx="756756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957-D638-4250-9E76-2C2C22FCA8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817720" y="5370480"/>
          <a:ext cx="307836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7720" y="5370480"/>
                    <a:ext cx="30783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7160" y="198360"/>
            <a:ext cx="86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opštem slučaj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vantiz. gr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k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≠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li aditivni kvan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ioni š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71760" y="4746600"/>
            <a:ext cx="558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02 +1.76 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C d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4600" y="930240"/>
            <a:ext cx="6384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vna vrednost kvantizacionog šum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t. Uniformna raspodel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DC d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ktralna gustina snage 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18400" y="919080"/>
          <a:ext cx="189396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8400" y="919080"/>
                    <a:ext cx="18939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33240" y="2708280"/>
          <a:ext cx="6924960" cy="117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3240" y="2708280"/>
                    <a:ext cx="69249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878120" y="6051600"/>
          <a:ext cx="544968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78120" y="6051600"/>
                    <a:ext cx="54496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30360" y="4695840"/>
          <a:ext cx="247644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360" y="4695840"/>
                    <a:ext cx="24764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612800" y="3719520"/>
          <a:ext cx="4295880" cy="97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12800" y="3719520"/>
                    <a:ext cx="42958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742-9E16-405B-9DA4-F85083197E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6560" y="268200"/>
            <a:ext cx="7834320" cy="373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12920" y="3879720"/>
          <a:ext cx="8027640" cy="12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2920" y="3879720"/>
                    <a:ext cx="802764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236600" y="5478480"/>
          <a:ext cx="6656400" cy="59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36600" y="5478480"/>
                    <a:ext cx="66564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02C-4162-4F7A-ADC0-BF87B8507E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8240" y="592200"/>
            <a:ext cx="558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02 +1.76 dB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0 log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/ 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W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7160" y="1860480"/>
            <a:ext cx="55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02 +1.76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07880" y="2646360"/>
          <a:ext cx="763920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646360"/>
                    <a:ext cx="76392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013280" y="113184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79600" y="3767040"/>
          <a:ext cx="461628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" y="3767040"/>
                    <a:ext cx="46162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65280" y="4618080"/>
            <a:ext cx="739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da je signal D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B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↔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040" y="5299200"/>
            <a:ext cx="570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t. Uniformna raspodela šum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C d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/2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B63-FE4E-48AB-9410-B227536897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5200" y="326880"/>
            <a:ext cx="8363160" cy="342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8385120" y="2211480"/>
          <a:ext cx="806400" cy="26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5120" y="2211480"/>
                    <a:ext cx="80640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87240" y="4065480"/>
            <a:ext cx="31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4143240"/>
            <a:ext cx="43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 svođenje na osnovni ops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745-99B9-4700-86B7-5A4E1A12E0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26960" y="39060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bi kvantizaciona greška mogla da se aproksimira belim šumom mora da postoji mehanizam koji će da uradi dekorelaciju sa ulaznim sign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lazni signal čija trenutna vrednost upada na slučajan način između dva (bilo koja) kvantizaciona niv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um sistema čija trenutna vrednost je slučajna veličina u opsegu (ba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LSB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 sme biti zas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ć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77920" y="3324240"/>
            <a:ext cx="646416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65D-E35A-45D0-B417-4A82899173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2388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 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lazni signal je (približno) D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lazni signal je (približno) složenoperiodič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a postoji NPS dolazi do autokorelacije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23E-C5B1-4C70-B8B1-36CEF63054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3T16:14:28Z</dcterms:created>
  <dc:creator/>
  <dc:description/>
  <cp:keywords/>
  <dc:language>en-US</dc:language>
  <cp:lastModifiedBy>.</cp:lastModifiedBy>
  <cp:lastPrinted>1997-02-24T15:25:40Z</cp:lastPrinted>
  <dcterms:modified xsi:type="dcterms:W3CDTF">2009-04-02T11:48:20Z</dcterms:modified>
  <cp:revision>400</cp:revision>
  <dc:subject/>
  <dc:title>ECE-548  Sequential Machine Theory</dc:title>
</cp:coreProperties>
</file>