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D65-B12A-453F-86B3-61A554FC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270-C230-4D01-BBB8-77ECA3AC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10E-A039-409E-BF8F-ACFCD6A0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367-7871-47F1-816F-4A12261E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13D-9BB9-481C-B932-BA1D1E70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711-29FA-4F56-A3ED-B0B56560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DDD-7465-4BAE-A9AD-6C5141B4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0E2-E1E9-49B1-A7F4-E89557F5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B06-4304-4B7D-AC18-0D5B28C5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A55-940F-457E-AD0D-0A3E6F1C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D2F-ABF8-47F5-A5D0-87547632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8B5-5FBE-471F-B798-26245843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6ECC-423E-4DAB-94C6-D297FD8E8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png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Upotreba nemonotonih NF filtera u grani direktnog pren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1676520"/>
          <a:ext cx="723888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2388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905120" y="4595760"/>
          <a:ext cx="4572000" cy="20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595760"/>
                    <a:ext cx="457200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Modulatori višeg r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ći SNR za niži O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nja verovatnoća graničnig cikl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ostavna re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bilnost problematična i zavisi od statistike sign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ra da se iskomplikuje dizajn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i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mplituda ulaznog napona se mora ograničiti jer se pri velikim vrednostima ulaznog napona smanju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Butterworth 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603680" y="380880"/>
          <a:ext cx="38671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3680" y="380880"/>
                    <a:ext cx="38671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7861320" cy="4362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52680" y="6172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=1,3,7 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→V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905120" y="3200400"/>
          <a:ext cx="495288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00400"/>
                    <a:ext cx="49528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876920" y="0"/>
          <a:ext cx="168264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0"/>
                    <a:ext cx="168264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1371600"/>
          <a:ext cx="8661240" cy="178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371600"/>
                    <a:ext cx="866124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981080" y="4343400"/>
          <a:ext cx="4267440" cy="12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4343400"/>
                    <a:ext cx="42674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Butterworth V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je polinom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tog reda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 vodećim koeficijentom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je VF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tog re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ksimalno ravna amplitudska karakteristika na visokim učestanos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odabrani red i pojačanje u propusnom opsegu postoji samo jedno kauzalno reše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lovi su sa umerenim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faktorom pa nije velika verovatnoća oscilovanja ukoliko je pobuda na učestanosti p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876920" y="304920"/>
          <a:ext cx="231768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04920"/>
                    <a:ext cx="231768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alogni dome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+ RC re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alogni dome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 digitalni domen + SC re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Direktna optimizacija u digitalnom domenu + SC re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Realizacija analognog filtera pomoću integratora + realizacija otpornika u SC teholog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362400"/>
          <a:ext cx="3809880" cy="4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62400"/>
                    <a:ext cx="38098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33520" y="588960"/>
          <a:ext cx="3429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88960"/>
                    <a:ext cx="3429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09480" y="1658880"/>
          <a:ext cx="3505320" cy="13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658880"/>
                    <a:ext cx="350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8600" y="4184640"/>
          <a:ext cx="4038480" cy="77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184640"/>
                    <a:ext cx="40384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3520" y="5105520"/>
          <a:ext cx="1218960" cy="64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105520"/>
                    <a:ext cx="12189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057400" y="5105520"/>
          <a:ext cx="1371600" cy="66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105520"/>
                    <a:ext cx="13716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2362320"/>
          <a:ext cx="4800600" cy="246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3400" y="2362320"/>
                    <a:ext cx="480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019920" y="457200"/>
          <a:ext cx="193680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57200"/>
                    <a:ext cx="19368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57200" y="685800"/>
          <a:ext cx="8153280" cy="19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685800"/>
                    <a:ext cx="81532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14300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ni ekv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2438280"/>
          <a:ext cx="3568680" cy="419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568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4120" y="3048120"/>
          <a:ext cx="2658960" cy="107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048120"/>
                    <a:ext cx="26589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430960" y="4956120"/>
          <a:ext cx="2025360" cy="108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0960" y="4956120"/>
                    <a:ext cx="2025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utterworth VF ima malu grešku u odnosu na idealan filter i na niskim i na visokim učestano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 niskim aproksimacija ne mora da bude toliko dobra jer je pojačanje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veliko pa je pojačanje ulaznog signal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verzni Čebiševljev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difikacija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tako da se realne nule pomere na jedinični krug što proizvodi nočeve u nepropusnom opse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va se SN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mercijalni programi za dizajn filtera rade ekviripl optimizaciju u nepropusnom opsegu što nije optimizacija za SN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tna moguća je dodatna optimizacija tako da se SNR poveća + uzimanje u obzir decimacionog fil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838080" y="1066680"/>
          <a:ext cx="716292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057400" y="4114800"/>
          <a:ext cx="5180040" cy="22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114800"/>
                    <a:ext cx="518004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bel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zacija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z integra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410080" y="380880"/>
          <a:ext cx="3117960" cy="11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80880"/>
                    <a:ext cx="311796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914400" y="1523880"/>
            <a:ext cx="70135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ovi su realni = 1 , ne 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e Čebiš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utterworth može ali STF ima pikove na višim učestanostima, pa mora pred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že se modifikovati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z integrator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sa distribuiranom povratnom spreg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401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1676520" y="4756320"/>
          <a:ext cx="6019560" cy="21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4756320"/>
                    <a:ext cx="6019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z integrator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sa lokalnom povratnom spreg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1182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z integrator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sa distribuiranom povratnom i feedforward spreg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4139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z integrator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sa lokalnom povratnom spregom i distribuiranom povratnom i feedforward spreg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878200"/>
            <a:ext cx="804240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amo povratna sprega po greš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000" y="1390680"/>
            <a:ext cx="90345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Decimacioni filteri za monotone NT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va kor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→4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lteri u pvom stepen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3505320"/>
          <a:ext cx="639432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05320"/>
                    <a:ext cx="63943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5257800"/>
          <a:ext cx="4724280" cy="12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257800"/>
                    <a:ext cx="472428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62120" y="4191120"/>
          <a:ext cx="6121440" cy="114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191120"/>
                    <a:ext cx="612144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2120" y="1066680"/>
          <a:ext cx="716256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16256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514600" y="3808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l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098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utiče na DC pojačanje NF filtera u propusnom opseg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tiskivanje VF u nepropusnom opseg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ra da bude u određenim grani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46280" y="457200"/>
          <a:ext cx="491004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457200"/>
                    <a:ext cx="491004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62120" y="2133720"/>
          <a:ext cx="596736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59673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828800" y="3048120"/>
            <a:ext cx="45655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5478" t="0" r="0" b="0"/>
          <a:stretch/>
        </p:blipFill>
        <p:spPr>
          <a:xfrm>
            <a:off x="2209680" y="0"/>
            <a:ext cx="4800600" cy="4233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6651720" cy="1503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209680" y="5541840"/>
            <a:ext cx="522792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5800" y="1219320"/>
          <a:ext cx="7588080" cy="24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58808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133720" y="4191120"/>
          <a:ext cx="44226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191120"/>
                    <a:ext cx="44226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oretski SNR za modulator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tog 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408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3430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TF za modulator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tog 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4800" cy="400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4952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će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veća i selektivnost, veće pojačanje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u nepropusnom opse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istogrami kvantizacionih nivoa za različite modulatore i 16 bitni kvantiz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973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1219320"/>
            <a:ext cx="830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ko se umesto 16 - bitnog koristi 1-bitni, doći će do oscil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se koriste binarni kvantizatori postoji problem stabilnosti za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2 (dugi nizovi nula i jedinica bez obzira na ulazni nap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alvni razlog nestabilnosti:  veliko pojačanje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u nepropusnom opse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b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ostavna prenosna funkcija 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i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ostavna re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koro pun opseg ulaznog nap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ak SNR za malo O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ciklusi, poželjan di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Modulator niskog reda (1,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1:49:28Z</dcterms:created>
  <dc:creator>Vasa</dc:creator>
  <dc:description/>
  <dc:language>en-US</dc:language>
  <cp:lastModifiedBy>Vasa</cp:lastModifiedBy>
  <dcterms:modified xsi:type="dcterms:W3CDTF">2009-04-23T09:48:13Z</dcterms:modified>
  <cp:revision>29</cp:revision>
  <dc:subject/>
  <dc:title>Slide 1</dc:title>
</cp:coreProperties>
</file>