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59.png" ContentType="image/png"/>
  <Override PartName="/ppt/media/image4.wmf" ContentType="image/x-wmf"/>
  <Override PartName="/ppt/media/image16.wmf" ContentType="image/x-wmf"/>
  <Override PartName="/ppt/media/image12.wmf" ContentType="image/x-wmf"/>
  <Override PartName="/ppt/media/image51.png" ContentType="image/png"/>
  <Override PartName="/ppt/media/image50.png" ContentType="image/png"/>
  <Override PartName="/ppt/media/image11.wmf" ContentType="image/x-wmf"/>
  <Override PartName="/ppt/media/image54.png" ContentType="image/png"/>
  <Override PartName="/ppt/media/image36.wmf" ContentType="image/x-wmf"/>
  <Override PartName="/ppt/media/image6.wmf" ContentType="image/x-wmf"/>
  <Override PartName="/ppt/media/image10.wmf" ContentType="image/x-wmf"/>
  <Override PartName="/ppt/media/image53.png" ContentType="image/png"/>
  <Override PartName="/ppt/media/image35.wmf" ContentType="image/x-wmf"/>
  <Override PartName="/ppt/media/image5.wmf" ContentType="image/x-wmf"/>
  <Override PartName="/ppt/media/image17.wmf" ContentType="image/x-wmf"/>
  <Override PartName="/ppt/media/image30.png" ContentType="image/png"/>
  <Override PartName="/ppt/media/image28.wmf" ContentType="image/x-wmf"/>
  <Override PartName="/ppt/media/image34.wmf" ContentType="image/x-wmf"/>
  <Override PartName="/ppt/media/image27.wmf" ContentType="image/x-wmf"/>
  <Override PartName="/ppt/media/image60.png" ContentType="image/png"/>
  <Override PartName="/ppt/media/image21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33.wmf" ContentType="image/x-wmf"/>
  <Override PartName="/ppt/media/image20.wmf" ContentType="image/x-wmf"/>
  <Override PartName="/ppt/media/image7.wmf" ContentType="image/x-wmf"/>
  <Override PartName="/ppt/media/image32.wmf" ContentType="image/x-wmf"/>
  <Override PartName="/ppt/media/image29.wmf" ContentType="image/x-wmf"/>
  <Override PartName="/ppt/media/image31.wmf" ContentType="image/x-wmf"/>
  <Override PartName="/ppt/media/image62.wmf" ContentType="image/x-wmf"/>
  <Override PartName="/ppt/media/image25.wmf" ContentType="image/x-wmf"/>
  <Override PartName="/ppt/media/image26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52.png" ContentType="image/png"/>
  <Override PartName="/ppt/media/image9.wmf" ContentType="image/x-wmf"/>
  <Override PartName="/ppt/media/image37.png" ContentType="image/png"/>
  <Override PartName="/ppt/media/image18.png" ContentType="image/png"/>
  <Override PartName="/ppt/media/image40.wmf" ContentType="image/x-wmf"/>
  <Override PartName="/ppt/media/image15.wmf" ContentType="image/x-wmf"/>
  <Override PartName="/ppt/media/image3.wmf" ContentType="image/x-wmf"/>
  <Override PartName="/ppt/media/image58.png" ContentType="image/png"/>
  <Override PartName="/ppt/media/image61.wmf" ContentType="image/x-wmf"/>
  <Override PartName="/ppt/media/image39.png" ContentType="image/png"/>
  <Override PartName="/ppt/media/image42.wmf" ContentType="image/x-wmf"/>
  <Override PartName="/ppt/media/image19.png" ContentType="image/png"/>
  <Override PartName="/ppt/media/image41.wmf" ContentType="image/x-wmf"/>
  <Override PartName="/ppt/media/image43.png" ContentType="image/png"/>
  <Override PartName="/ppt/media/image44.wmf" ContentType="image/x-wmf"/>
  <Override PartName="/ppt/media/image45.png" ContentType="image/png"/>
  <Override PartName="/ppt/media/image46.png" ContentType="image/png"/>
  <Override PartName="/ppt/media/image47.png" ContentType="image/png"/>
  <Override PartName="/ppt/media/image48.png" ContentType="image/png"/>
  <Override PartName="/ppt/media/image49.png" ContentType="image/png"/>
  <Override PartName="/ppt/media/image55.wmf" ContentType="image/x-wmf"/>
  <Override PartName="/ppt/media/image56.wmf" ContentType="image/x-wmf"/>
  <Override PartName="/ppt/media/image14.wmf" ContentType="image/x-wmf"/>
  <Override PartName="/ppt/media/image2.wmf" ContentType="image/x-wmf"/>
  <Override PartName="/ppt/media/image5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083F-6BC1-4B20-ACC3-18184F28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AF71-4B2B-4B31-86DC-AFB50597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8E03-1204-4F87-8EE6-9CDF2C39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7DC0-E771-412C-B2E4-AFF20AEB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EF55-35D3-44A9-8C6F-139A934A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809E-3650-4BF9-BFA6-FCA07624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75DF-70EC-485C-8375-EA366493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603E-665D-4287-AC80-A1C93A0D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6E0E-930C-4A79-99A9-D77D0691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6FC-25FA-4CDE-BED3-8F77B35A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58DA-BDB7-45D3-A739-063315E0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AD3F-0AA7-4743-A735-43DF66FB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7080-F51D-4C25-9808-243E276B9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76320" y="411120"/>
          <a:ext cx="9144000" cy="64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411120"/>
                    <a:ext cx="914400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dabir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MOS prekidač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3048120"/>
            <a:ext cx="77724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Da bi vreme akvizici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bilo krać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treba da bude malo. Za proces fabrikacije prozvod pokretljivosti i kapacitivnosti je konstantan tako da se jedino podešavanje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W/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može smanjivat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Otpornost zavisi od ulaznog napona što utiče na linearnost 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ema ofseta zbog pada napona na prekidaču u stacionarnom sta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1295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Otpornost ka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133720" y="1828800"/>
          <a:ext cx="5532480" cy="9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828800"/>
                    <a:ext cx="553248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609480" y="2209680"/>
          <a:ext cx="5181840" cy="5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51818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33520" y="1143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Channel charge in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943600" y="0"/>
          <a:ext cx="2971800" cy="277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0"/>
                    <a:ext cx="2971800" cy="27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609480" y="3429000"/>
            <a:ext cx="77724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elektrisanje posle isključenja tranzistora napušta kanal kroz sors i dre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Zbog efekta osnove napon praga nelinearno zavisi od ulaznog napona, što unosi nelinearnost u 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koliko se neutrališe efekat osnove ostaje samo greška ofseta, a ako se realizuje linearna zavisnost, onda greška pojačanja, što se može lakše kompenzov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762120"/>
            <a:ext cx="373392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clock feedtrough i hold mode feedtrough: Da bi uticaj bio manj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treba da se poveća ali se tad povećava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zavise od ulaznog napona što unosi nelinea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486400" y="163440"/>
          <a:ext cx="3429000" cy="317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63440"/>
                    <a:ext cx="3429000" cy="31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838080" y="3733920"/>
            <a:ext cx="72392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perture jitter: pošto ivica takta ima konačno trajanje, a napon na sorsu zavisi od ulaznog napona, trenutak isključenja tranzistora neće biti precizno definisan. Jedna od metoda za ublažavanje ovog efekta je povećanje strujnog kapaciteta CLK drajv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oristan opseg ulaznog napona je približno (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33526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Pun opseg ulaznog napo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znatno manja zavisnost ukupne otpornosti od ulaznog nap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4572000"/>
            <a:ext cx="76201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ck feedthrough effect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ože se koimpenzovati ako nema faznog kašnjenja kontrolnih sig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Nelinearn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i fazno kašnjenje kontrolnih signal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omplikuju kompenzaciju z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ck feedthrough eff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2640240" cy="2827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733920" y="304920"/>
            <a:ext cx="50292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5486400" y="517680"/>
          <a:ext cx="3429000" cy="33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517680"/>
                    <a:ext cx="3429000" cy="33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28600" y="228600"/>
          <a:ext cx="4343400" cy="19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28600"/>
                    <a:ext cx="434340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28600" y="2286000"/>
            <a:ext cx="5105520" cy="28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unosi uvek isti ch charge i clk feedtrough - utiče samo na o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što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deluju na otkačen kondenzator, zanemarljivo utič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hold mode feedtrough je mali jer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kratko spaja sors od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5105520"/>
            <a:ext cx="8534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i="1" lang="sr-Latn-CS" sz="2400" spc="-1" strike="noStrike" baseline="-25000">
                <a:solidFill>
                  <a:srgbClr val="333399"/>
                </a:solidFill>
                <a:latin typeface="Times New Roman"/>
              </a:rPr>
              <a:t>H</a:t>
            </a:r>
            <a:r>
              <a:rPr b="0" lang="sr-Latn-CS" sz="2400" spc="-1" strike="noStrike">
                <a:solidFill>
                  <a:srgbClr val="333399"/>
                </a:solidFill>
                <a:latin typeface="Times New Roman"/>
              </a:rPr>
              <a:t> i </a:t>
            </a:r>
            <a:r>
              <a:rPr b="0" i="1" lang="sr-Latn-C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i="1" lang="sr-Latn-CS" sz="2400" spc="-1" strike="noStrike" baseline="-25000">
                <a:solidFill>
                  <a:srgbClr val="333399"/>
                </a:solidFill>
                <a:latin typeface="Times New Roman"/>
              </a:rPr>
              <a:t>GD2</a:t>
            </a:r>
            <a:r>
              <a:rPr b="0" lang="sr-Latn-CS" sz="2400" spc="-1" strike="noStrike">
                <a:solidFill>
                  <a:srgbClr val="333399"/>
                </a:solidFill>
                <a:latin typeface="Times New Roman"/>
              </a:rPr>
              <a:t> prave razdelnik što unosi nelinearni efekat pri prelasku u hold mod jer zavisi od ulaznog napo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(ne postoji kod diferencijalne realizacije 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rot="10800000">
            <a:off x="879480" y="285840"/>
            <a:ext cx="73836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iodni prekidač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3520" y="1143000"/>
          <a:ext cx="421956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42195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5105520" y="1523880"/>
          <a:ext cx="2971800" cy="7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523880"/>
                    <a:ext cx="29718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5029200" y="2438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povećanje struje polariz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365760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povećanje površine PN spo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(ali se povećava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Cj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971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znatno manje nego 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ncip funkcionisanja: zadatak xx zbirka R.Djur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zavisnosti od ulaznog napona diod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imaju istu promenu struje, dok diod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imaju istu promenu ali suprotnog znaka u odnosu n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 Time je promena otpornost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kompenzovana promenom otpornost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pa je ukupna otpornost prekidača približno nezavisna od ulaznog napona. (mali sig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charge injection: količina naelektrisanja je 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Q = I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Franklin Gothic Book"/>
              </a:rPr>
              <a:t>x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o je konstantno i prouzrokuje konstantni o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ola za generisanje C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 rot="10800000">
            <a:off x="837720" y="837720"/>
            <a:ext cx="79376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 rot="10800000">
            <a:off x="1142640" y="837720"/>
            <a:ext cx="75438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219320" y="2209680"/>
          <a:ext cx="640080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09680"/>
                    <a:ext cx="640080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990720" y="1066680"/>
          <a:ext cx="64767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066680"/>
                    <a:ext cx="64767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609480" y="41911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Brzo semplo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tiču prekida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bipol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e realizacije složen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OS svi efekti se sumarno manifestuju kao bazna greš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2286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 arhitek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219320" y="304920"/>
          <a:ext cx="6553080" cy="610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04920"/>
                    <a:ext cx="6553080" cy="61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7543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Ektremno brzo kol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da s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oris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šotki di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je do 2GHz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Bootstrep integrator princip (ima P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ranzistori ne idu u zasić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clock feedtrough se zatvara preko Milerovih kapacitivnosti koje se prazne preko dioda pa je uticaj m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Hold mode feedt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886200" y="2819520"/>
          <a:ext cx="4267080" cy="32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819520"/>
                    <a:ext cx="426708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imes New Roman"/>
              </a:rPr>
              <a:t>Opseg ulaznog napona mali za aplikacije sa malim naponom napaj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imes New Roman"/>
              </a:rPr>
              <a:t>Ofset prouzrokovan nejednakošću struja </a:t>
            </a:r>
            <a:r>
              <a:rPr b="0" i="1" lang="sr-Latn-CS" sz="24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0" i="1" lang="sr-Latn-CS" sz="24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imes New Roman"/>
              </a:rPr>
              <a:t>Velika potroš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imes New Roman"/>
              </a:rPr>
              <a:t>komplikovana realizacija, nije pogodna za visoko integrisane sampled-data sisteme</a:t>
            </a:r>
            <a:r>
              <a:rPr b="0" lang="sr-Latn-C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3332" r="0" b="0"/>
          <a:stretch/>
        </p:blipFill>
        <p:spPr>
          <a:xfrm>
            <a:off x="1523880" y="2309760"/>
            <a:ext cx="708660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10800000">
            <a:off x="380520" y="92160"/>
            <a:ext cx="796788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5816520" cy="2717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3733920"/>
            <a:ext cx="80769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vi pojačavač je transkonduktans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režimu praćenja – jedinični interno kompenzovani bafer. Na kondenzatoru je napon koji se pr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režimu pamćenja – integrator sa slobodnim ulaz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1523880"/>
            <a:ext cx="83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98680" y="457200"/>
            <a:ext cx="5816520" cy="2717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80880" y="3276720"/>
            <a:ext cx="85345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što j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na potencijalu mase nema efekta osnove pa je osnovni uzrok aperture jitter efekta minimizo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Channel charge injection je konstantan i prouzrokuje konstantan of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Delimična kompenzacija ofseta se ostvaruje dodavanjem ekvivalentnog kola na pozitivan priključak operacionog pojačavač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Hold feedtrough ne postoji zbog zasićenja transkonduktansnog po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 rot="10800000">
            <a:off x="304920" y="380160"/>
            <a:ext cx="807696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762120" y="415800"/>
          <a:ext cx="4038480" cy="31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15800"/>
                    <a:ext cx="4038480" cy="31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80880" y="3886200"/>
            <a:ext cx="85345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Channel charge injec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je potpuno isti jer jedan prekid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 vidi izlaz transkonduktansnog pojačavača u zasiće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Clock feedtrough se skoro potpuno kompenzuje (na niskim učestanosti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eciznija kompenzacija se ostvaruje diferencijalnom realizacijom na račun slož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imes New Roman"/>
              </a:rPr>
              <a:t>stabilnost, moraju se primeniti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sr-Latn-CS" sz="2400" spc="-1" strike="noStrike">
                <a:solidFill>
                  <a:srgbClr val="333399"/>
                </a:solidFill>
                <a:latin typeface="Times New Roman"/>
              </a:rPr>
              <a:t>konzervativn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”</a:t>
            </a:r>
            <a:r>
              <a:rPr b="0" lang="sr-Latn-CS" sz="2400" spc="-1" strike="noStrike">
                <a:solidFill>
                  <a:srgbClr val="333399"/>
                </a:solidFill>
                <a:latin typeface="Times New Roman"/>
              </a:rPr>
              <a:t> tehnike kompenz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imes New Roman"/>
              </a:rPr>
              <a:t>ograničena brz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imes New Roman"/>
              </a:rPr>
              <a:t>na višim učestanostima izlazna impedansa operacionog pojačavača raste pa se hold feedtrough poveć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181480" y="838080"/>
          <a:ext cx="3276720" cy="289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838080"/>
                    <a:ext cx="3276720" cy="28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600200" y="4140360"/>
            <a:ext cx="5816520" cy="2717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828800" y="4038480"/>
            <a:ext cx="5892840" cy="1524240"/>
          </a:xfrm>
          <a:custGeom>
            <a:avLst/>
            <a:gdLst/>
            <a:ahLst/>
            <a:rect l="l" t="t" r="r" b="b"/>
            <a:pathLst>
              <a:path w="3808" h="1256">
                <a:moveTo>
                  <a:pt x="0" y="1208"/>
                </a:moveTo>
                <a:cubicBezTo>
                  <a:pt x="56" y="756"/>
                  <a:pt x="112" y="304"/>
                  <a:pt x="672" y="152"/>
                </a:cubicBezTo>
                <a:cubicBezTo>
                  <a:pt x="1232" y="0"/>
                  <a:pt x="2912" y="112"/>
                  <a:pt x="3360" y="296"/>
                </a:cubicBezTo>
                <a:cubicBezTo>
                  <a:pt x="3808" y="480"/>
                  <a:pt x="3344" y="1128"/>
                  <a:pt x="3360" y="1256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alno odabir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39800" y="1523880"/>
          <a:ext cx="774072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1523880"/>
                    <a:ext cx="774072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2481120" y="685800"/>
          <a:ext cx="3505320" cy="89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1120" y="685800"/>
                    <a:ext cx="350532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666880" y="4916520"/>
          <a:ext cx="3810240" cy="78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4916520"/>
                    <a:ext cx="381024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09480" y="5715000"/>
          <a:ext cx="75438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5715000"/>
                    <a:ext cx="75438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066680" y="380880"/>
          <a:ext cx="7315200" cy="30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80880"/>
                    <a:ext cx="7315200" cy="30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905120" y="3581280"/>
            <a:ext cx="50292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-loop arhitektu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azira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a Mi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v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f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038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d ob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nih MOS prekidača brzina i preciznost su kontradiktorni zaht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bolje je ako su nezavisni kondenzatori za prati i pamti rež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495680" y="1219320"/>
          <a:ext cx="45086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219320"/>
                    <a:ext cx="45086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533520" y="152280"/>
          <a:ext cx="384480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280"/>
                    <a:ext cx="384480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105520" y="380880"/>
          <a:ext cx="3456000" cy="252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80880"/>
                    <a:ext cx="3456000" cy="25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143000" y="3276720"/>
          <a:ext cx="2438280" cy="58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276720"/>
                    <a:ext cx="243828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5105520" y="3276720"/>
          <a:ext cx="2500200" cy="556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05520" y="3276720"/>
                    <a:ext cx="250020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57200" y="4038480"/>
            <a:ext cx="8305920" cy="25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skljucuje sa konstantni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ako da unosi konstantan o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jačavač treba da bude brz ali ne mora da ima veliki dinamički opseg jer napon održava naelektricanje n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imes New Roman"/>
              </a:rPr>
              <a:t>Preciznost zavisi od simultanosti uključenja prekidač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imes New Roman"/>
              </a:rPr>
              <a:t>efektivno primenjivo za brze konvertore sa rezolucijom do 8 b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rhirekture sa multipleksiranim ulaz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ingle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400800" cy="29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"/>
          <p:cNvGraphicFramePr/>
          <p:nvPr/>
        </p:nvGraphicFramePr>
        <p:xfrm>
          <a:off x="1295280" y="3429000"/>
          <a:ext cx="597240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429000"/>
                    <a:ext cx="597240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04920" y="48286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godno za brzu bipolarnu tehnolog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jačanja ne moraju da budu velika - dobija se na brz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imes New Roman"/>
              </a:rPr>
              <a:t>mali opseg ulaznog nap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imes New Roman"/>
              </a:rPr>
              <a:t>Gm se menja sa ulaznim naponom, a korekcija smanjuje brzi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583272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0" t="3688" r="0" b="0"/>
          <a:stretch/>
        </p:blipFill>
        <p:spPr>
          <a:xfrm>
            <a:off x="0" y="762120"/>
            <a:ext cx="5029200" cy="3357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rhirekture sa multipleksiranim ulaz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ual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rcRect l="0" t="0" r="9678" b="0"/>
          <a:stretch/>
        </p:blipFill>
        <p:spPr>
          <a:xfrm>
            <a:off x="4648320" y="838080"/>
            <a:ext cx="4267080" cy="3232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5181480" y="2819520"/>
            <a:ext cx="2911680" cy="414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57200" y="3581280"/>
            <a:ext cx="2827440" cy="3025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505320" y="4267080"/>
            <a:ext cx="541008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ki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dači su sorsom prema masi pa su charge injection i clock feedtrough kostantni i ako su jednaki potpuno se kompenzuj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4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33399"/>
                </a:solidFill>
                <a:latin typeface="Times New Roman"/>
              </a:rPr>
              <a:t>sporiji od single lo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4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33399"/>
                </a:solidFill>
                <a:latin typeface="Times New Roman"/>
              </a:rPr>
              <a:t>mali opseg ulaznog nap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ycling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5490" t="0" r="9463" b="0"/>
          <a:stretch/>
        </p:blipFill>
        <p:spPr>
          <a:xfrm>
            <a:off x="228600" y="1143000"/>
            <a:ext cx="4724280" cy="42512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51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0" t="3699" r="0" b="0"/>
          <a:stretch/>
        </p:blipFill>
        <p:spPr>
          <a:xfrm>
            <a:off x="5486400" y="304920"/>
            <a:ext cx="3273480" cy="3962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rcRect l="3999" t="4920" r="10669" b="0"/>
          <a:stretch/>
        </p:blipFill>
        <p:spPr>
          <a:xfrm>
            <a:off x="0" y="0"/>
            <a:ext cx="5181480" cy="4417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52280" y="4191120"/>
            <a:ext cx="8763120" cy="26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ne utiču na greš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nose konstantan ofset zbog sorsa na masi ali se međusobno kompenzu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prouzrokuje injektovanjae naelektrisanja ali n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nema efekta jer je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nulta impedansa, a n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nema značajnog efekta jer se uticaj deli sa 1+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</a:rPr>
              <a:t>izl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ekidačko kapacitivna SH 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7724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4648320" cy="25956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28600" y="2579760"/>
            <a:ext cx="8686800" cy="42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2 se prvi otvori - naelekrisanje S1 se vrlo malo prebaci u 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2 je sorsom vezano za vrtuelnu masu tako da unosi konstantan ofset koji se u diferencijalnim realizacijama eliminiš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Jednostepeni transkonduktansni pojačavači mogu da ostvare lineranost koja obezbeđuje rezoluciju od 13 b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jednostavna realizacija, pogodna za integrisane aplikacije gde je potreban veliki broj SH kola u čipu (pipeline AD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33399"/>
                </a:solidFill>
                <a:latin typeface="Times New Roman"/>
              </a:rPr>
              <a:t>S1 ima promenljiv napon na svojim krajevima – ima uslova za aperture jit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33399"/>
                </a:solidFill>
                <a:latin typeface="Times New Roman"/>
              </a:rPr>
              <a:t>pošto pojačavač radi kao operacioni sa pojačanjem </a:t>
            </a:r>
            <a:r>
              <a:rPr b="0" i="1" lang="sr-Latn-CS" sz="2200" spc="-1" strike="noStrike">
                <a:solidFill>
                  <a:srgbClr val="333399"/>
                </a:solidFill>
                <a:latin typeface="Times New Roman"/>
              </a:rPr>
              <a:t>Gm</a:t>
            </a:r>
            <a:r>
              <a:rPr b="0" lang="sr-Latn-CS" sz="2200" spc="-1" strike="noStrike">
                <a:solidFill>
                  <a:srgbClr val="333399"/>
                </a:solidFill>
                <a:latin typeface="Times New Roman"/>
              </a:rPr>
              <a:t>*</a:t>
            </a:r>
            <a:r>
              <a:rPr b="0" i="1" lang="sr-Latn-CS" sz="2200" spc="-1" strike="noStrike">
                <a:solidFill>
                  <a:srgbClr val="333399"/>
                </a:solidFill>
                <a:latin typeface="Times New Roman"/>
              </a:rPr>
              <a:t>Rizl</a:t>
            </a:r>
            <a:r>
              <a:rPr b="0" lang="sr-Latn-CS" sz="2200" spc="-1" strike="noStrike">
                <a:solidFill>
                  <a:srgbClr val="333399"/>
                </a:solidFill>
                <a:latin typeface="Times New Roman"/>
              </a:rPr>
              <a:t>  , linearnost i preciznost zavise od veličine tog proizvoda, svako opterećenje izlaza degradira performanse, pa je ovo rešenje  ograničeno na integrisana k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dabiranje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idealnim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lom zadr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ške 0 re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31920" y="2209680"/>
          <a:ext cx="6713640" cy="43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2209680"/>
                    <a:ext cx="6713640" cy="43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143000" y="1295280"/>
          <a:ext cx="6858000" cy="9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295280"/>
                    <a:ext cx="68580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743200" y="3079800"/>
          <a:ext cx="624852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79800"/>
                    <a:ext cx="624852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04920" y="762120"/>
          <a:ext cx="4346280" cy="318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762120"/>
                    <a:ext cx="4346280" cy="31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1371600" y="228600"/>
            <a:ext cx="583740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5837400" cy="554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761976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780320" cy="39081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286000" y="5029200"/>
            <a:ext cx="5334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380880" y="228600"/>
          <a:ext cx="7315200" cy="43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7315200" cy="43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990720" y="4724280"/>
          <a:ext cx="6654600" cy="15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724280"/>
                    <a:ext cx="6654600" cy="15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2563" t="0" r="1710" b="0"/>
          <a:stretch/>
        </p:blipFill>
        <p:spPr>
          <a:xfrm>
            <a:off x="0" y="762120"/>
            <a:ext cx="914400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dabiranje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idealnim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/H kol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se iza idealnog SH nalazi AD konvertor beskonačne rezolucije sinhronizovan sa SH, kombinacija SH+AD  je ekvivalentna sa kolom za idealno odabiranje - AD vrednost signala u trenutku odabiranja pretvara u bro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DA beskonačne rezolucije se ponaša kao kolo zadrške 0 reda sa pojačanjem koje zavisi od refer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895480" y="3733920"/>
          <a:ext cx="333720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733920"/>
                    <a:ext cx="333720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914400" y="5029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 kad su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pori si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066680" y="2778120"/>
          <a:ext cx="6934320" cy="40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78120"/>
                    <a:ext cx="6934320" cy="40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28600" y="228600"/>
          <a:ext cx="8683560" cy="23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28600"/>
                    <a:ext cx="868356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523880" y="762120"/>
          <a:ext cx="563904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762120"/>
                    <a:ext cx="563904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ffset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old mode feedt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perture j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lock feedt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219320" y="3200400"/>
          <a:ext cx="640080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200400"/>
                    <a:ext cx="640080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20:05:08Z</dcterms:created>
  <dc:creator>Milan Ponjavic</dc:creator>
  <dc:description/>
  <dc:language>en-US</dc:language>
  <cp:lastModifiedBy>.</cp:lastModifiedBy>
  <dcterms:modified xsi:type="dcterms:W3CDTF">2008-03-21T15:28:10Z</dcterms:modified>
  <cp:revision>54</cp:revision>
  <dc:subject/>
  <dc:title>Slide 1</dc:title>
</cp:coreProperties>
</file>