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58.wmf" ContentType="image/x-wmf"/>
  <Override PartName="/ppt/media/image19.wmf" ContentType="image/x-wmf"/>
  <Override PartName="/ppt/media/image20.png" ContentType="image/png"/>
  <Override PartName="/ppt/media/image17.png" ContentType="image/png"/>
  <Override PartName="/ppt/media/image5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1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49.png" ContentType="image/png"/>
  <Override PartName="/ppt/media/image52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5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F46-BA5A-49B7-AF2E-C57E9906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5A0-DAA8-4CB3-9E29-015C0CC2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2DB-9158-4C7F-BE7D-18AA6DA8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423-F565-46EA-8518-9188BD2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60B-D3E8-4114-91A2-115D726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A8F-4200-45CA-8711-977A0C8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B8B-AC8C-4CFA-B379-0D575D6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D18-F6ED-40D0-BC56-68A136B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4E0-CCE4-42B5-B023-56906CD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C74-5903-4BA2-9D86-1D16345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438-04ED-4578-8096-CCD2289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FFB-21ED-4EEF-9C53-E21C9C0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7350-79AC-4F6D-B8CF-D037A5CD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295272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2952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76920" y="609480"/>
          <a:ext cx="3057480" cy="375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609480"/>
                    <a:ext cx="305748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0" y="4362480"/>
          <a:ext cx="5383080" cy="24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362480"/>
                    <a:ext cx="53830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0"/>
            <a:ext cx="5410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izacija funkcija pr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807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invertujući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533520"/>
          <a:ext cx="607356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607356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0880" y="3733920"/>
          <a:ext cx="6019920" cy="29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733920"/>
                    <a:ext cx="60199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4280" y="3124080"/>
          <a:ext cx="358164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124080"/>
                    <a:ext cx="35816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562720" y="228600"/>
          <a:ext cx="328608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"/>
                    <a:ext cx="328608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0" y="152280"/>
          <a:ext cx="6019920" cy="33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280"/>
                    <a:ext cx="601992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934320" y="213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14640"/>
            <a:ext cx="236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aza linearno o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roksimacija je prihvatljiva do 0.1/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10% učestanosti odabiranja, 20% korisnog opseg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3352680"/>
          <a:ext cx="6019920" cy="33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352680"/>
                    <a:ext cx="601992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 otpornik, paralelni ekv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990720"/>
          <a:ext cx="853452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" y="4267080"/>
          <a:ext cx="800100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267080"/>
                    <a:ext cx="80010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3276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v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nos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pona generat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od 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nosti odab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14400" y="166680"/>
          <a:ext cx="73915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6680"/>
                    <a:ext cx="73915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914400" y="3276720"/>
          <a:ext cx="70102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76720"/>
                    <a:ext cx="70102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05320" y="5410080"/>
          <a:ext cx="193680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410080"/>
                    <a:ext cx="1936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33520" y="16765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276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25780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90920" y="2286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ni ekvival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9800" y="838080"/>
          <a:ext cx="52275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838080"/>
                    <a:ext cx="52275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57200" y="762120"/>
          <a:ext cx="4282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4282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410080" y="1768320"/>
          <a:ext cx="273852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768320"/>
                    <a:ext cx="27385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15000" y="4016520"/>
          <a:ext cx="187308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016520"/>
                    <a:ext cx="187308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362320" y="228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ne real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ja kontinualnih sistema u diskretne sist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ov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ov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ea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2438280"/>
          <a:ext cx="134604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13460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895480" y="1447920"/>
          <a:ext cx="152424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447920"/>
                    <a:ext cx="15242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743200" y="3429000"/>
          <a:ext cx="180324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429000"/>
                    <a:ext cx="18032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565360" y="4876920"/>
          <a:ext cx="347976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65360" y="4876920"/>
                    <a:ext cx="34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228600"/>
          <a:ext cx="365760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365760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800600" y="1371600"/>
          <a:ext cx="266688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26668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459240" y="2362320"/>
          <a:ext cx="5119560" cy="15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240" y="2362320"/>
                    <a:ext cx="51195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33520" y="3657600"/>
          <a:ext cx="4572000" cy="265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657600"/>
                    <a:ext cx="457200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-15840"/>
            <a:ext cx="364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tujući integ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2971800"/>
          <a:ext cx="56386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5638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685800"/>
          <a:ext cx="868680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85800"/>
                    <a:ext cx="86868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038480" y="5443560"/>
          <a:ext cx="48196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5443560"/>
                    <a:ext cx="4819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095880" y="4572000"/>
          <a:ext cx="2667240" cy="5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572000"/>
                    <a:ext cx="26672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609480"/>
          <a:ext cx="822960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22960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izacija funkcija pr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990720"/>
          <a:ext cx="628020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2802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2057400"/>
            <a:ext cx="6172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realizuje preko integr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5486400"/>
          <a:ext cx="457200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486400"/>
                    <a:ext cx="4572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133720" y="2666880"/>
          <a:ext cx="3975120" cy="96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2666880"/>
                    <a:ext cx="3975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09680" y="3657600"/>
          <a:ext cx="4038840" cy="15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657600"/>
                    <a:ext cx="40388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3880" y="228600"/>
          <a:ext cx="594360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9436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828800" y="3352680"/>
          <a:ext cx="571500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352680"/>
                    <a:ext cx="57150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04920" y="914400"/>
          <a:ext cx="853416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56372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aza je dobra, aproksimacija je prihvatljiva do četvrtine učestanosti odabiranja (50% korisnog opseg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29000" y="457200"/>
          <a:ext cx="174780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57200"/>
                    <a:ext cx="1747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04920" y="380880"/>
          <a:ext cx="81388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1388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23720" y="1676520"/>
          <a:ext cx="868536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676520"/>
                    <a:ext cx="86853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4191120"/>
          <a:ext cx="5413320" cy="14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4133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52480" y="3352680"/>
          <a:ext cx="491328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352680"/>
                    <a:ext cx="4913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04920" y="304920"/>
          <a:ext cx="8839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839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304920"/>
          <a:ext cx="480060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4800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523880"/>
          <a:ext cx="160020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523880"/>
                    <a:ext cx="16002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1523880"/>
          <a:ext cx="152388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523880"/>
                    <a:ext cx="15238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2819520"/>
          <a:ext cx="5181480" cy="26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2819520"/>
                    <a:ext cx="5181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 po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vač -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tpuni transfer naelektris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8080" y="905040"/>
          <a:ext cx="65534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05040"/>
                    <a:ext cx="65534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5029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3581280"/>
          <a:ext cx="807732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1280"/>
                    <a:ext cx="80773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66680" y="380880"/>
          <a:ext cx="6553440" cy="24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80880"/>
                    <a:ext cx="65534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4038480"/>
          <a:ext cx="769140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76914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676520" y="865080"/>
          <a:ext cx="5333760" cy="31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865080"/>
                    <a:ext cx="533376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572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po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avač - 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puni transfer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343400" y="685800"/>
          <a:ext cx="457200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57200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3520" y="3048120"/>
          <a:ext cx="7924680" cy="37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8120"/>
                    <a:ext cx="79246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52280" y="1371600"/>
          <a:ext cx="38102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371600"/>
                    <a:ext cx="3810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sivni integ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228600"/>
          <a:ext cx="464796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464796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219320" y="2440080"/>
          <a:ext cx="6815160" cy="43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440080"/>
                    <a:ext cx="681516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1066680"/>
          <a:ext cx="380988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066680"/>
                    <a:ext cx="38098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04920" y="1295280"/>
          <a:ext cx="388620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38862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19720" y="990720"/>
          <a:ext cx="449568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990720"/>
                    <a:ext cx="44956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905120" y="3581280"/>
          <a:ext cx="510516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581280"/>
                    <a:ext cx="510516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572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tivni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6:39:16Z</dcterms:created>
  <dc:creator>.</dc:creator>
  <dc:description/>
  <dc:language>en-US</dc:language>
  <cp:lastModifiedBy>.</cp:lastModifiedBy>
  <dcterms:modified xsi:type="dcterms:W3CDTF">2008-03-21T15:27:58Z</dcterms:modified>
  <cp:revision>69</cp:revision>
  <dc:subject/>
  <dc:title>Slide 1</dc:title>
</cp:coreProperties>
</file>